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F26B-0027-49F9-9E6B-C69F9E71A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ing to talk about gene expression databases, and the When and Where aspects of gene express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metaphor well established.  Directory/folder navigation on PCs.  Graphs are not as familiar to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graphs as tress anyway.  Have to communicate to user that what appears as two separate parts of tree are actu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raw them as graphs.  See Mary Dolan’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annotation propagates downward.  Positive information propagates up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combine annotations when you have extra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S is a different colour here, but it is not significantly different from the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even spatial only requires DAG struc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point is 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 single assay, a list may make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summarise the whole dataset a tree may work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user is not an expert anatomist.  How do you make interfaces flexible enough to help these users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display 2600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ex do you want your queries to b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aises its ugly head again.  Average user will think that these two queries should two distinct sets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at cover every experiment in the data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e all experiments with expression in 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e all experiments without expression in 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explain 3-valued logic to web us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going to introduce the issues then talk about some implemented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OR searches, AND searches.  But can’t combine the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not expressed annotations, but can’t query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size of ontology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-completion of terms (AJ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lso query from complet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and pattern, and how to propagate that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complex anatomy by reducing it to 100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them to specify positive and negative annotation for all 100 terms in the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I/Mary Do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annotation as a graph, drawn on the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ally informative about how the terms are related to each other,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a lot of screen space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it take new users to figure this format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andons (almost) text annotation.  Instead of describing expression with words, describe it with 3-D models of embryonic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ene expression images and map them to model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pressed generated as part of the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based on what the author says, but rather than what the images s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DMAP/EuR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 with complex Boolean expressions by use of sets and set-based operation.  AND/OR/NOT all supported using intersection, union, dif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complicated form at Z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a tax form quer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blem is to balance flexibility with ease of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complexity / size: see lat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 range: Allows for flexible time win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etected annotations:  ZFIN records them, but you can’t query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/All, propoagation both switchable by 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ing the user deal with the complex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ed anatomy terms are recorded for later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looked for adaxial cell and noto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ays grouped first by ge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s one of the entries from the previou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igure 3 from thi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annotations presented as a list, ordered by time and then alphabe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for many assay types the image is the most important piece of source data.  However, ZFIN has decided to annotate publications even where the image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native ways to find this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tomy browser.  Can search for terms, uses Ajax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searched for head across all stages.  Shows me links to gene expression assays that are annotated for each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a particular stage as a tree.  The only time you’ll see a tree at Z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ed about presenting a single assay vs larger datab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thetical fish / Abstract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rything is li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user search for terms using their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lso get to it from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hole point of this slid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!  INTERRUPT!  ASK QUESTION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ctures are not nearly as interesting as discu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what you get if you click the link from the cav3 gen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FIN demonstrates importance of integration.  Everything on this page is hot link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is Gregor Eichele’s chi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 web site that focuses on mouse ISH experiments on sections all produced by the same automated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uses 10 icons to convey different combinations of strength, pattern, and detected / not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key is pulled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ey shows examples of what they mean by each lab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fortunately key is not linked to from results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query form showing the results of the given query: hox and annotation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you can search by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is not shown, but there are only 5 or terms in the pu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2 st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 of clicking on first entry on  previou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deals with anatomical complexit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annotating a singl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ing the anatomy ontology for that stage down to 100 or s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et is a tree, not a D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very assay they annotate every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annotation in a collapsible / expandable tree on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takes 20-24 sections and pictures for each assay, each slicing through a different part of the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each (detected) annotation has a link to an image that supports that annotation.  Clicking on the link changes the thumb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fore I dive into the details of gene expression databases, this is a good time to ask:  Is this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labour intensive process, the image is mapped onto the model for TS11 using ti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is then thresholded to reveal different levels of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labour intensive process, the image is mapped onto the model for TS11 using ti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is then thresholded to reveal different levels of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absolute minimu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tell others how to reproduce your results and allow them to make judgement calls on rel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so lays the groundwork for later querying of th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etected annotations are a challen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has to be followed with qualifier: “In this assay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etected” is not the same thing as the absence of a “detected” an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cepts of when and where are central to any gene expression databa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out them you can’t answer even the most basic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3C3-B9D8-4D6A-A116-B9225036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8D5-1A6E-4C21-8677-A814A045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CD9-2183-4AAE-91E8-B9ABEA5D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148-B33C-4D9F-90E5-FB36AE00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5988-BE65-4A83-911C-771F5A02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4E3B-F4DD-4E37-8DB4-46778C19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C54C-B42B-4688-8922-F4C05170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4819-670F-4831-ACBE-7A43EF7D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5314-370B-4F93-9D74-8DF8315E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0771-B971-4AA1-9BAD-5DC42682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C79F-7962-465C-B211-77C65D12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0DB-BD88-4E2F-BBD7-FECF8F04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5FF4-A1DF-4AE7-BA39-D7E8038C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EDB0-D63C-4B7F-B85C-E427D2F9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80B8-114B-447E-8FF0-DFB1AF89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6E48-BFC0-4821-A44A-9511DD97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600D-F31C-4C42-BFE0-13B69099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486-6D2A-408C-BC1C-BDB1ED34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4E6-1534-4C8E-8587-D558D432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017-3B22-4C4B-B26D-0DF0C600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6F9-88EB-4EF1-8D16-983B726B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305-16E0-4FA9-90F4-A6335F28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899-1FF9-4B94-9473-347FF972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A3C-B7E9-4893-8532-4A292295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84F5-AFFC-4605-BB57-94BE8CF35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4F44-EC47-4B39-A784-6AB2E7287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zfin.org/" TargetMode="External"/><Relationship Id="rId2" Type="http://schemas.openxmlformats.org/officeDocument/2006/relationships/hyperlink" Target="http://zfin.org/" TargetMode="External"/><Relationship Id="rId3" Type="http://schemas.openxmlformats.org/officeDocument/2006/relationships/hyperlink" Target="http://zfin.org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genepaint.org/Frameset.html" TargetMode="External"/><Relationship Id="rId2" Type="http://schemas.openxmlformats.org/officeDocument/2006/relationships/hyperlink" Target="http://genepaint.org/Frameset.html" TargetMode="External"/><Relationship Id="rId3" Type="http://schemas.openxmlformats.org/officeDocument/2006/relationships/hyperlink" Target="http://genepaint.org/Frameset.html" TargetMode="Externa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patial.maine.edu/~mdolan/GXD_Graphs/" TargetMode="External"/><Relationship Id="rId2" Type="http://schemas.openxmlformats.org/officeDocument/2006/relationships/hyperlink" Target="http://www.spatial.maine.edu/~mdolan/GXD_Graphs/" TargetMode="External"/><Relationship Id="rId3" Type="http://schemas.openxmlformats.org/officeDocument/2006/relationships/hyperlink" Target="http://www.spatial.maine.edu/~mdolan/GXD_Graphs/" TargetMode="External"/><Relationship Id="rId4" Type="http://schemas.openxmlformats.org/officeDocument/2006/relationships/hyperlink" Target="http://www.spatial.maine.edu/~mdolan/GXD_Graphs/" TargetMode="Externa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genex.hgu.mrc.ac.uk/" TargetMode="External"/><Relationship Id="rId2" Type="http://schemas.openxmlformats.org/officeDocument/2006/relationships/hyperlink" Target="http://genex.hgu.mrc.ac.uk/" TargetMode="External"/><Relationship Id="rId3" Type="http://schemas.openxmlformats.org/officeDocument/2006/relationships/hyperlink" Target="http://genex.hgu.mrc.ac.uk/" TargetMode="External"/><Relationship Id="rId4" Type="http://schemas.openxmlformats.org/officeDocument/2006/relationships/hyperlink" Target="http://genex.hgu.mrc.ac.uk/" TargetMode="External"/><Relationship Id="rId5" Type="http://schemas.openxmlformats.org/officeDocument/2006/relationships/hyperlink" Target="http://genex.hgu.mrc.ac.uk/" TargetMode="External"/><Relationship Id="rId6" Type="http://schemas.openxmlformats.org/officeDocument/2006/relationships/hyperlink" Target="http://genex.hgu.mrc.ac.uk/" TargetMode="External"/><Relationship Id="rId7" Type="http://schemas.openxmlformats.org/officeDocument/2006/relationships/hyperlink" Target="http://genex.hgu.mrc.ac.uk/" TargetMode="External"/><Relationship Id="rId8" Type="http://schemas.openxmlformats.org/officeDocument/2006/relationships/hyperlink" Target="http://genex.hgu.mrc.ac.uk/" TargetMode="External"/><Relationship Id="rId9" Type="http://schemas.openxmlformats.org/officeDocument/2006/relationships/hyperlink" Target="http://genex.hgu.mrc.ac.uk/das/jsp/submission.jsp?id=EMAGE:1033" TargetMode="External"/><Relationship Id="rId10" Type="http://schemas.openxmlformats.org/officeDocument/2006/relationships/hyperlink" Target="http://genex.hgu.mrc.ac.uk/das/jsp/submission.jsp?id=EMAGE:1033" TargetMode="External"/><Relationship Id="rId11" Type="http://schemas.openxmlformats.org/officeDocument/2006/relationships/hyperlink" Target="http://genex.hgu.mrc.ac.uk/das/jsp/submission.jsp?id=EMAGE:1033" TargetMode="External"/><Relationship Id="rId12" Type="http://schemas.openxmlformats.org/officeDocument/2006/relationships/hyperlink" Target="http://genex.hgu.mrc.ac.uk/das/jsp/submission.jsp?id=EMAGE:1033" TargetMode="External"/><Relationship Id="rId13" Type="http://schemas.openxmlformats.org/officeDocument/2006/relationships/hyperlink" Target="http://genex.hgu.mrc.ac.uk/das/jsp/submission.jsp?id=EMAGE:1033" TargetMode="External"/><Relationship Id="rId14" Type="http://schemas.openxmlformats.org/officeDocument/2006/relationships/hyperlink" Target="http://genex.hgu.mrc.ac.uk/das/jsp/submission.jsp?id=EMAGE:1033" TargetMode="External"/><Relationship Id="rId15" Type="http://schemas.openxmlformats.org/officeDocument/2006/relationships/hyperlink" Target="http://genex.hgu.mrc.ac.uk/das/jsp/submission.jsp?id=EMAGE:1033" TargetMode="External"/><Relationship Id="rId16" Type="http://schemas.openxmlformats.org/officeDocument/2006/relationships/hyperlink" Target="http://genex.hgu.mrc.ac.uk/das/jsp/submission.jsp?id=EMAGE:1033" TargetMode="External"/><Relationship Id="rId17" Type="http://schemas.openxmlformats.org/officeDocument/2006/relationships/hyperlink" Target="http://genex.hgu.mrc.ac.uk/das/jsp/submission.jsp?id=EMAGE:1033" TargetMode="External"/><Relationship Id="rId18" Type="http://schemas.openxmlformats.org/officeDocument/2006/relationships/hyperlink" Target="http://genex.hgu.mrc.ac.uk/das/jsp/submission.jsp?id=EMAGE:1033" TargetMode="External"/><Relationship Id="rId19" Type="http://schemas.openxmlformats.org/officeDocument/2006/relationships/hyperlink" Target="http://genex.hgu.mrc.ac.uk/das/jsp/submission.jsp?id=EMAGE:1033" TargetMode="External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ene Expression Database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ere and Whe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720" y="4038480"/>
            <a:ext cx="7238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c@hgu.mrc.ac.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eGene and Mouse Atla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l Research Council Human Genetics Un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3 April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ees, DAGs, Lis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natomy ontologie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ed acyclic graphs (D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(except root) have 1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have 0 or mor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(except root) can have multiple 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have 0, 1 or man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ultiple ways to think about an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Tree: Spatial mou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1905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648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43200" y="22860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952880" y="2286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82880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97144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01992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24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DAG: Spatial and Function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905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648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43200" y="22860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952880" y="2286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2880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97144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992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708624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724280" y="2286000"/>
            <a:ext cx="0" cy="83808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809880" y="3504960"/>
            <a:ext cx="762120" cy="114300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952520" y="3504960"/>
            <a:ext cx="685800" cy="114300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nnotation in Contex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erms in anatomy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nder DAG as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context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erms in a fla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 user other means to figure out where/what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ick ascending lim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ing assay versus whole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ing annotation up/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ed propagat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homogenous / ubiquitous patte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Detected propagate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whole mou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propagation be sh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, pattern,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nnotated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this be propag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uch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Query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king Whe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omy ontologies can be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 TS26 has 2600+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s: OR/any, AND/all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ed, Not De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sking Whe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users won’t know what distinguishes stages TS18 and TS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provide flexibility without swamping them in too much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confuse them by presenting terms that never coexist in a real spe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sking What, How, Who, 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s /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bol / Name /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ay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terns, Confidence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xample Expression Databa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e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Issues: With a focus on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qu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plemente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ample Implemen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integrated basics (I like to th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atomy, robust pattern an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by Mary Dolan based on MG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way to show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completel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GUDMAP/EuRe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Booleans via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ZFI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organism database for zebra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zfin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7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4267080"/>
            <a:ext cx="182880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1905120"/>
            <a:ext cx="3200400" cy="12189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4191120"/>
            <a:ext cx="1905120" cy="8380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76720"/>
            <a:ext cx="91440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94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-228600" y="1600200"/>
            <a:ext cx="4191120" cy="9907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343400"/>
            <a:ext cx="419112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6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2209680"/>
            <a:ext cx="1447920" cy="5335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352680"/>
            <a:ext cx="426708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2971800"/>
            <a:ext cx="8077320" cy="762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Fine Pri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, ask questions, interrup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issues and exist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roposing any new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teresting gene expression topics I am not going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rays, mutants, Cell/Tissue Type Ontology, curation standa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not a b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14600" y="1371600"/>
            <a:ext cx="3962520" cy="6858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GenePai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use ISH Gene Expres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genepaint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org/Framese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data uses same set of high-throughpu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4520" y="838080"/>
            <a:ext cx="4292640" cy="4343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7473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-152280" y="5486400"/>
            <a:ext cx="3581280" cy="6094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86000"/>
            <a:ext cx="76212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523880"/>
            <a:ext cx="99036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0" y="3733920"/>
            <a:ext cx="609480" cy="3045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895480"/>
            <a:ext cx="609480" cy="3049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Mary Dolan’s work with MG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izing expression in a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spatial.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maine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edu/~mdolan/GXD_Graph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7080" y="304920"/>
            <a:ext cx="47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I GXD Annotations for Abca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10688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644000" y="1185840"/>
            <a:ext cx="267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een arrows indicate “is_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rple arrows indicate “part_of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384804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2280" y="420840"/>
            <a:ext cx="8845560" cy="6437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915840" y="685800"/>
            <a:ext cx="45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I GXD Annotations for Abca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nburgh Mouse Atlas Gene Express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genex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hgu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mrc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.ac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8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complete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tial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http: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0"/>
              </a:rPr>
              <a:t>//genex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1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2"/>
              </a:rPr>
              <a:t>hgu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3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4"/>
              </a:rPr>
              <a:t>mrc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5"/>
              </a:rPr>
              <a:t>.ac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6"/>
              </a:rPr>
              <a:t>uk/das/jsp/submission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7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8"/>
              </a:rPr>
              <a:t>jsp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9"/>
              </a:rPr>
              <a:t>?id=EMAGE:103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Record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: Original Im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with original whole mount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men from TS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135400" y="2022480"/>
            <a:ext cx="3418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: </a:t>
            </a:r>
            <a:br>
              <a:rPr sz="4400"/>
            </a:b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p to TS11 Model and threshold expre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3017880" cy="3192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837400" y="2057400"/>
            <a:ext cx="2493720" cy="4038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01084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1554120" cy="2514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89808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143000" y="4425840"/>
            <a:ext cx="7696080" cy="2051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941000" y="2104920"/>
            <a:ext cx="29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ct anatom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ession levels 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4760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undamental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, probe, strain,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n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ually developmenta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re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ually anatom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ay,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,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ome Additional Anno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ous, graded, regional, spotte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in this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expression grad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ample, image, signal, prob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: How sure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Not Detected Anno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but conf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ting not just to mak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detected’ does not = not ‘detected’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value lo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ed, not detected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as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te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this a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 to prove absence of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rtions always subject to limits of current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When and Whe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central to gene expressio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the least understood of the basic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atomy Ontolog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Present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MOD / NESCent</cp:lastModifiedBy>
  <dcterms:modified xsi:type="dcterms:W3CDTF">2008-02-19T05:55:48Z</dcterms:modified>
  <cp:revision>38</cp:revision>
  <dc:subject/>
  <dc:title>Recording, Presenting and Querying Gene Expression Data</dc:title>
</cp:coreProperties>
</file>